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EFD-235E-4F06-B23C-A1223B13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8C5-F672-4394-B190-91CCBB0E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CE5-71D5-4DCD-B0F2-5D22F8E2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C16-48C0-495C-9EF9-F457FE3C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4395-01C5-48F1-8474-DB90F148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1ACE-B192-4348-8677-16CD7199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D4A6-F15F-488A-AA0A-09403820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BA40-A9BC-4644-B8AC-88DE4D2E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0849-A7CE-409C-8C89-14E3C781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A349-0D91-4ABE-AD07-187C8430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28A7-C0D0-42B6-B5AF-7D0C0284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95B-B1CB-4F62-855A-7B2C1CA7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4992-1ECE-4B67-A885-815D84CD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01EC-A1EA-4F72-B591-DC376874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F9D2-38B7-4C62-91AE-65CF3E6A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CACE-158D-4DF9-819D-5AD1BF8E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C7F3-6F9E-451A-AF52-650794C4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4B2-CBA9-43EF-B06C-7A3DED3B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BF0-5FFE-4F59-A0AD-BE16B160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7F9-925A-49D1-B870-964536AA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63D-4C90-41C4-9689-ADBCD4C5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FBF-BC0F-42A6-9B26-D018A321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CD3-2351-4265-AE34-C4D64ECD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F94-68D8-412F-9476-AD4A50FA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C505AC-7E3B-40FD-B8E5-E48CEBF807D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E3EE2F-8F45-438A-BC37-9A423AD79F6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1500" spc="-1" strike="noStrike">
                <a:solidFill>
                  <a:srgbClr val="ffff00"/>
                </a:solidFill>
                <a:latin typeface="Calibri"/>
              </a:rPr>
              <a:t>British Newspapers</a:t>
            </a:r>
            <a:endParaRPr b="0" lang="ru-RU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928880" y="2357280"/>
            <a:ext cx="52858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Заголовок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me Facts About British 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457200" y="1268280"/>
            <a:ext cx="82292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iest known newspaper of British origi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xford Gazet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16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newspapers are divided into three sectors: Quality Press, Middle-Market Press, Red-Top Tabloids (Popular P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eat Britain there are 3 formats of newspapers: Broadsheet, Berliner, Comp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newspapers divided into Daily and Su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1"/>
          <p:cNvSpPr/>
          <p:nvPr/>
        </p:nvSpPr>
        <p:spPr>
          <a:xfrm>
            <a:off x="2123640" y="0"/>
            <a:ext cx="4536000" cy="194400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chemeClr val="lt1"/>
                </a:solidFill>
                <a:latin typeface="Calibri"/>
              </a:rPr>
              <a:t>Quality Pr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Прямая со стрелкой 2"/>
          <p:cNvCxnSpPr/>
          <p:nvPr/>
        </p:nvCxnSpPr>
        <p:spPr>
          <a:xfrm flipH="1">
            <a:off x="900000" y="1341360"/>
            <a:ext cx="1368720" cy="71928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87" name="Овал 3"/>
          <p:cNvSpPr/>
          <p:nvPr/>
        </p:nvSpPr>
        <p:spPr>
          <a:xfrm>
            <a:off x="0" y="2061000"/>
            <a:ext cx="3275640" cy="115164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lt1"/>
                </a:solidFill>
                <a:latin typeface="Calibri"/>
              </a:rPr>
              <a:t>Broad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4"/>
          <p:cNvCxnSpPr/>
          <p:nvPr/>
        </p:nvCxnSpPr>
        <p:spPr>
          <a:xfrm>
            <a:off x="4284360" y="1989000"/>
            <a:ext cx="360" cy="23767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89" name="Овал 5"/>
          <p:cNvSpPr/>
          <p:nvPr/>
        </p:nvSpPr>
        <p:spPr>
          <a:xfrm>
            <a:off x="2555640" y="4437000"/>
            <a:ext cx="3384000" cy="100764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lt1"/>
                </a:solidFill>
                <a:latin typeface="Calibri"/>
              </a:rPr>
              <a:t>Berl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6"/>
          <p:cNvCxnSpPr/>
          <p:nvPr/>
        </p:nvCxnSpPr>
        <p:spPr>
          <a:xfrm>
            <a:off x="6372000" y="1484280"/>
            <a:ext cx="1224360" cy="72108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1" name="Овал 7"/>
          <p:cNvSpPr/>
          <p:nvPr/>
        </p:nvSpPr>
        <p:spPr>
          <a:xfrm>
            <a:off x="6119640" y="2349000"/>
            <a:ext cx="3024000" cy="100764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lt1"/>
                </a:solidFill>
                <a:latin typeface="Calibri"/>
              </a:rPr>
              <a:t>Co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0" y="3500280"/>
            <a:ext cx="31316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ily Tele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da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2771640" y="5805360"/>
            <a:ext cx="295236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uar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b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6407280" y="3573360"/>
            <a:ext cx="2736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кругленный прямоугольник 1"/>
          <p:cNvSpPr/>
          <p:nvPr/>
        </p:nvSpPr>
        <p:spPr>
          <a:xfrm>
            <a:off x="2699640" y="260640"/>
            <a:ext cx="3960000" cy="93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Middle-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Соединительная линия уступом 2"/>
          <p:cNvCxnSpPr/>
          <p:nvPr/>
        </p:nvCxnSpPr>
        <p:spPr>
          <a:xfrm flipV="1" rot="10800000">
            <a:off x="1834920" y="1196640"/>
            <a:ext cx="1153080" cy="1511640"/>
          </a:xfrm>
          <a:prstGeom prst="bentConnector2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97" name="Соединительная линия уступом 3"/>
          <p:cNvCxnSpPr/>
          <p:nvPr/>
        </p:nvCxnSpPr>
        <p:spPr>
          <a:xfrm>
            <a:off x="6372000" y="1196640"/>
            <a:ext cx="1224360" cy="1511640"/>
          </a:xfrm>
          <a:prstGeom prst="bentConnector2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8" name="Скругленный прямоугольник 4"/>
          <p:cNvSpPr/>
          <p:nvPr/>
        </p:nvSpPr>
        <p:spPr>
          <a:xfrm>
            <a:off x="395640" y="2853000"/>
            <a:ext cx="316800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724000" y="2925000"/>
            <a:ext cx="316800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468360" y="4149720"/>
            <a:ext cx="287928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ily 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ily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5724360" y="4221000"/>
            <a:ext cx="309528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day 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il on Su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most famous British newspapers 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2" spcCol="0"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1" action="ppaction://hlinksldjump"/>
              </a:rPr>
              <a:t>The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2" action="ppaction://hlinksldjump"/>
              </a:rPr>
              <a:t>The Indepen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3" action="ppaction://hlinksldjump"/>
              </a:rPr>
              <a:t>The Guar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4" action="ppaction://hlinksldjump"/>
              </a:rPr>
              <a:t>The Daily M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5" action="ppaction://hlinksldjump"/>
              </a:rPr>
              <a:t>The S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6" action="ppaction://hlinksldjump"/>
              </a:rPr>
              <a:t>The Daily Exp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7" action="ppaction://hlinksldjump"/>
              </a:rPr>
              <a:t>The Ob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8" action="ppaction://hlinksldjump"/>
              </a:rPr>
              <a:t>The Sunday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123</Words>
  <Paragraphs>37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22:16:52Z</dcterms:created>
  <dc:creator>comp001</dc:creator>
  <dc:description/>
  <dc:language>en-US</dc:language>
  <cp:lastModifiedBy>comp001</cp:lastModifiedBy>
  <dcterms:modified xsi:type="dcterms:W3CDTF">2013-05-26T22:28:40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